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43718"/>
        <c:axId val="77966001"/>
      </c:barChart>
      <c:catAx>
        <c:axId val="17343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66001"/>
        <c:crosses val="autoZero"/>
        <c:auto val="1"/>
        <c:lblAlgn val="ctr"/>
        <c:lblOffset val="100"/>
        <c:noMultiLvlLbl val="0"/>
      </c:catAx>
      <c:valAx>
        <c:axId val="77966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43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471-6246-4503-B0CC-CA907E3A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60C-AD13-401A-9B34-71CF819B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2A97-55ED-4925-87F1-B7790858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D7C-63BB-4C17-B28B-D775D00F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E78-FDEC-45D9-8F6A-D73174EE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3FC-6BC6-4EF6-A469-45C6ABD5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AD2-0D3E-4862-BDE8-451CE9D8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521-14C5-496C-9387-14594978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8D8A-E8D3-4DD1-A573-501272BE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6AF-F98A-4969-9BF9-6FDE63E0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B5D-7762-4C4E-8A7B-F0DFAF53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1FA-717D-4873-B73D-FEF593B5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D9E208-4C4B-4B02-A5CE-CA3CD081E4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