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4505"/>
        <c:axId val="64489726"/>
      </c:barChart>
      <c:catAx>
        <c:axId val="5274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89726"/>
        <c:crosses val="autoZero"/>
        <c:auto val="1"/>
        <c:lblAlgn val="ctr"/>
        <c:lblOffset val="100"/>
        <c:noMultiLvlLbl val="0"/>
      </c:catAx>
      <c:valAx>
        <c:axId val="64489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4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23D-8D07-44DC-8FE9-C54C278F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54D-2CAA-47CC-95C9-0357DF3F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D9B-E094-4356-A370-2242F772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45A-A2BF-4076-A237-8FC4DAAB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4BA-1B75-4AD3-B588-095BEF99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100-483C-420E-AB5F-5D8F595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CA0-CABA-4A5C-BC9F-7C2A5AD3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F75-C64E-4BE3-9B9D-8FD519A7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4FD-12F6-4B9A-9018-3B4A8B11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9C0-717D-4452-ACAA-5F803AAE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971-F322-4AF2-9F11-6FE8E2E3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76B-6024-408A-A2E9-744B88AD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28B6D-01E6-46D7-907B-7D126D3E6F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